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F09-20F2-4766-8C20-D2A58DE6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730-64E4-4465-9B16-0FAF12FD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CBB2F-8D47-4344-8E8C-F1930E3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55FAE-D686-4FE0-ABC0-0ED8C3F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9A1E-710E-421D-A316-BDA423B3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B262E-D5B8-4EB9-A099-13A9F8B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B05D7-8964-410D-8836-49772ADA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5F0E-7D3B-4884-842F-8C0F117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4ED5B-D746-4B1B-AD0E-D139DF91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B63A5-41DA-4A66-9F6C-4BA57977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1A2A5-E0A6-4C3C-AE2C-15322F75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291EB-1949-47D5-B1B3-6D3CB262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B93-F4D6-43E9-964D-48C74C6A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76223-A88F-4845-837B-1F68D10A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C6135-F607-4175-B0FA-3E114988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EE9E8-ED11-47EC-9FCC-BE110F9B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DEB35-834F-4EA8-8239-20B6109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B6111-697C-4CE1-82CE-BCB08B02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61785-07F9-440A-BE2D-84D80C7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F3F24-F3D6-460E-B8B9-3310CE15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C7C05-5925-4989-B4F4-CA4E8B2A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925C2-0FCA-424E-A427-044ECBD8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45E13-0343-42E5-A92A-6460591E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448-C4DC-4F84-BD99-E229AADC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650FB-7084-442B-B52E-B3304A19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72C60-794B-4101-B8DA-1B6EE712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CE832-CF0E-4BE4-9BCF-D2B7DB5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AA8AB-340D-4AB5-A482-E276FBAA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ED28B-7773-47BA-86F7-114D4AB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E668F-F713-4E1C-8BCD-122279B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B417-C8DF-4137-ACFE-2E8E927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8CA67-6C66-4C6E-8EB1-33F7EA9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B0206-1519-4F39-9679-3B8C32B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016FB-8165-4613-8138-3FD6A98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C1D-E41A-479B-B250-0F976A14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104CB-1CB5-43D1-A8C9-85C5F4B8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5EDEB-D65D-4F71-8B95-C2D5D245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CE1ED-3466-4ED9-9C1B-E5C41B89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F8BB2-6B4E-4C65-93CB-AD934D73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AEFFB-84F2-4D55-B811-008180E6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CE6D1-26D4-4CF4-A747-730C767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871F4-4969-40CD-89C0-F42BF77A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83CA4-C852-4653-BC5B-DA42F219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2E9F2-5BF7-4764-B5CA-B190D891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831DA-5C57-4E1C-BA5F-D1A7AB0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5188-FB3F-4B65-92BD-5FF67F2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1E451-FCF1-4714-AF3B-CD31624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2EA19-938E-4E05-B767-3727ACB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89F8D-ED91-42B9-9BEF-6303126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D5696-DD0F-4F69-B643-ABFC9372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AEB7E-C1D9-4DD0-B386-4CCB3C7D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EC8B3-1DBA-4991-9BFB-3F85FA4E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F1703-6259-4704-B4A8-36500076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72960-B989-4685-B07E-5F28E4B5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AEC89-F9DF-4D54-9C14-C2274A5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282B5-7CF9-48E3-BD55-97AF0A9A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DF03-87B0-4445-8257-6A53BF0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882B7-FA97-47A4-9577-786AA39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62D8B-6496-478B-B6B2-1BA481D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49C11-2E6F-465A-89A1-4DD3FDBF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B95E6-86B8-4C73-8A6B-C0E8FF96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EE7DD-3465-4F97-89BA-0581E5BB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1A840-0323-4948-AFFC-E9EAD979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40B98-A8B3-4C33-8FC2-CB2CD93D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3BC26-F3BA-4657-A6DE-01B3ECA5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91884-43F6-4B7D-B1A1-93A55662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35F49-2BA8-4C55-9C23-F8386F9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2D94-F0A8-4D18-A519-90F9C2B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649DC-7598-4063-83AC-8D407B5C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7E7DA-1538-4209-842B-A641E412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30561-ED31-45B8-9C8B-18C38C6F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AEE07-E586-43E6-BCB8-EA4F243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04448-666D-4DB3-8610-37CF8CC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C28EB-3996-4082-A0F6-A8568104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DEB43-B2FC-4AD9-9243-ADB58FD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BD00D-FD82-4DE4-8BDA-268214A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AAFA1-23AF-490F-83CC-BC8D44C0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75348-3910-4F06-9359-35342296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5237-9638-4F3C-AEA2-1A87AC86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9CF6E-C0BE-4BBE-98DD-F00AA00E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F0D83-9825-4877-B674-09FDE38B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1D0B2-C4F2-460D-B345-E6AD687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1043D-7BD6-4BD5-B927-2F356917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1471A-B3AE-494D-9A30-6D1D1DF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EFD0E-BCE4-4486-86D9-D56225D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746F1-0941-4FC8-A7BA-178ED86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2A34B-F66F-4CFF-A34F-7820308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E8C87-2C02-4FD1-8590-0FAE9A7A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8D026-17AC-4064-80C8-87B4C193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6BEB-B258-442F-815B-9E8995C1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7B738-C1F6-4769-A160-036D5472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A6F30-AC53-4609-A144-2908D4A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F899A-D032-4C3E-BA54-25B41C58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295EA-4153-49AE-9DD5-32BFD9C3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1A59E-B34A-4417-91CC-D6137889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E3911-F437-4D00-AF76-8FF2D36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6B915-236A-42F7-AEE3-3776DEB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070A9-D8A0-4F8C-ABD0-CC13FD8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4FA5C-A784-4C6C-B221-9F0813E7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61E29-C99C-4FC7-B748-3FBDFCD9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B060-7414-4D9C-9CCC-51653DD4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E23EB-E9C3-4B51-98FD-92542BC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CAB7A-F0F7-4D7D-9D0B-AB7EF219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12763-ABCD-406D-9EAE-0A25E35C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3629D-1457-4369-947C-4491F245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ED2B6-0DE7-4BC9-9936-52B6CE4D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43CF5-F6A3-4B1B-B226-29F0B5B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009FB-3D19-4620-A243-4D03694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9740C-83DE-4FDC-BB98-8C713C3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A8F43-A3FC-49A2-8910-F82B2A52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78CCC-A6AB-4F71-89A3-30F2C0D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763-53D0-4159-A0AD-0D36EC29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300F-40A5-4627-9F4F-B74CEAE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EA5B1-3162-496F-98B9-A794AC1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42985-9F71-42CC-825E-23B6BAA1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776B2-2189-43C5-9824-64A026D2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D4693-2769-4123-8DB8-8DDED621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83B9D-EBD2-4479-AF18-439AA19F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33C16-3934-4A88-89E9-605CE465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9F347-D80F-4850-94F3-67C25F0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041CE-83F9-44CD-AAEE-36361348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EA585-5E39-4BF8-A94F-9A2BDA4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6FD53-528C-4640-8C5B-FA6FFD41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EB1-9338-4EE1-8850-D0AB871A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B3036A-365D-4242-987B-36BC17EF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2F2EE-EB26-47D1-994C-703A76A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024D0-23A4-4F42-9DAD-E207974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32DC6-D9BA-4499-9BB5-18B033A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0855D-1F90-40DA-B805-9506A8FB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758D5-76D9-42DC-A67B-9ACC8552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3F368-9959-404D-940E-D342760A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03E7B-A3BD-424B-9FE1-1A50133A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A4A9A-7B88-41FB-8404-0DE80248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657DE-E9F7-4D3D-BAD4-A7C5520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4A3E-440C-4AEB-9AA4-F0EAB81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4FAEE-0DF9-497F-81EF-3E74A7F1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1B7CF-5F45-4667-B75E-A25CA53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5637D-FC86-4612-BAA9-07E1463F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FDCEF-42DB-4A33-81FE-471EEAF2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C1056-D2C5-4A9C-BC77-9F55D248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BB9B9-06FC-4258-A616-671B922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D448D-52AE-4559-8772-749BB96E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E6A51-3C9F-471A-AF62-2057F1BE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4AF05-7530-4CEC-9B7C-ECF9D4EA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30218-2F00-4370-9D91-079E311E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F8DE-0052-49B4-B333-DA009354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2F9C1-2304-4A6D-B1A9-2EABB1B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12CC2-44EE-4662-A077-FB80795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39D176-CDB1-4248-9216-873E1E9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C1FE6B-33A6-4F39-8241-CFE73FBC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466EB-053A-492F-9883-DBB0192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5B835-923A-46BE-9582-BFA6BE3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15A32-1FCB-4EDA-86F4-3A50E863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CE085-6E23-4C6F-B0FD-9CCCF48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F6322-988B-491B-9E4D-BF2316E4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266E6-42F4-42A2-B24C-31B065CA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F5A7-DC99-4F06-BE9E-0BAEE036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51DC6-1712-4C41-A8D1-8471A28A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50A5B-75F8-4657-8AB1-40B49341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07BA3-3F32-4391-A2CB-520DCCF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9ADA2-C757-45EA-B398-34BDFA3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44EEC-1757-4FED-9D7D-AF1C1231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6C35E-FCB4-480B-A8FA-66944C3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BF505-7037-43D6-A7BA-67805F33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E7FDC-2A5A-4CB8-B7C7-54EBE87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EDDBFA-06EB-4A76-B4FC-86BAF45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287BF-42C0-43A9-8E55-19204F1E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90C7-A0EB-4BA3-AD53-EC9A44EC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218D1-E174-4585-BDD6-B9C8D60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1E666-779D-48F5-AFAB-F6BC7E41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BED60-3931-443F-9D08-560068FE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2EFF3-DE6D-4AAD-8041-5BB389B5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A6B30-D3B7-412C-8356-34D4B05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09937-F334-4FDF-B331-C799227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BFA13-702B-4B49-8CE8-034C672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74661-F6E4-4308-AAED-F0012B6F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17076-757C-4091-84EF-7D6C387B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B8852-C4F7-4EFA-84EC-F6D9BE79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F3B4-65AD-4C74-8DF2-EFC33183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CDC80D-8755-4FBC-AC0B-7CFC236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BF23FF-D167-42B9-A831-83296FB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AB335A-E17F-4A8B-A0DE-89266D7D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1EB5F-E82B-4102-AAB1-D0500F4D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3AFA6D-5B50-4D6B-9384-C029A244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68F5B6-32B3-4F6F-A431-12557A33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F84BD5-2231-424E-94BF-89AC079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91CD2F-9400-4F96-AF67-05AE90D9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DDD88-D57B-4A1F-8115-88342DD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371F3-FDFB-4B7F-B9B8-7E63F25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11A2-DE91-4F9D-AC9C-34C801D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BF6D65-C6A5-4EF2-98DF-B81173B4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AF41E8-B95D-4F3B-931D-0FCF892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9C18D8-9AF0-4EF8-B08C-BDD2EB8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8F3439-13DA-4F1E-8B45-C18AFF2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DE276-3413-4991-BB2A-ED1A8F1C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28783-001A-4364-9644-A2DCF530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165B0-D538-4A49-A0DF-410893DB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907245-41B8-44B8-902C-C053B661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30A1D-F951-4987-B378-463B831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3D3241-969B-4F7A-9ACA-E51E6237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8278-5E0F-4A60-AE61-20675687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57770F-E9CA-426A-A095-83CAB9E6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86B3F-02BE-414D-AF06-C6A3681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44144E-7F8E-4B8C-A67D-E42FD94C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66B658-94C9-46BA-87B7-92EA85C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659BFE-059A-4F44-AB18-C786D62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637AD3-9B19-42E0-99D4-E32B85ED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7E4159-47BD-4847-B2E2-E2F4523E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8B8E56-E344-4F3B-A9D8-4BA991D7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8CB262-61FB-4E5D-910A-3181B281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AD59B9-2F89-4181-BC31-A6CF642A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145D-0B16-4436-B184-82155340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94B2D-D9E8-428B-B0D0-125CB5F7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944B54-F3E9-4430-8514-B2E6C54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E7EA7D-6C38-4A1B-874E-04F7F97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CAB6DC-2519-4B21-ABDC-AD13CEE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602AA8-E164-40C0-9C02-0A8F2457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C38A12-F33B-45A9-9835-BABD052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513A96-881F-4651-9A9D-AFE8760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CC3A14-D7DC-4548-9607-743B105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2A3136-020A-49F7-BAAE-BA3FC011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D0B325-04A0-4B0A-B770-E268DFB1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CA2-F808-4448-AD33-B81AAC61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6921-B56C-40A3-A883-0798A81B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838BDD-7B1C-42AA-97D8-8D95F4BE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052852-1BD2-4144-92EE-0D53D48E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8529ED-2633-4572-BE7A-AEC3E20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66EA08-6154-4CB9-B80C-D32BF334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7C5573-D30D-422D-BE53-7D3D6D97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EC6F2B-E56D-4236-A1A0-9BD375C5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D890A6-D168-4E5A-BCA7-2A6A828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7BD120-F4D5-4773-8E6D-1D89BB2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EC9F88-9843-4C7F-BEEB-E33F08A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540A3-DC72-4538-9865-4E44772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52F7-EF02-471A-B6DF-20CB980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BC09DF-D350-44EC-A9BD-C30DCFC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369A8D-6310-4E34-A6FB-F1A8A6EC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B9CD4F-8D02-468B-893F-0F1A9599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24AED0-FC6F-4411-BF63-82E8CE1A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FFD5D1-FDED-4AF2-B3D1-642F4643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D11634-C8A5-45CE-A355-44673EF9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5D6E51-1FC2-4611-B1C8-58A2DF75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BD53A5-CAC3-4F9B-9D64-CE47A3A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174A01-0C5C-4515-90A1-8E4D3DB8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525A55-09AF-4927-84EE-709E43F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A8B3-7699-4474-A7A1-7B43DCD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4B5413-73A5-4482-9008-7705714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4DBB90-2D02-4392-B6C4-46ADD537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3B88C8-A75C-4C14-9F07-F6AAF84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51680E-FD99-472D-9BC6-59190EDF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FCEAA6-D903-499A-9A27-E4AEEC17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FFCC3A-CA7E-4113-8117-575B0A4F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2DDE7D-A25D-484F-B236-FEE9FF98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EF7CE3-B60D-49AD-BEA5-0889977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81177B-AFE5-4C6D-A406-E9813298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D03114-8FF5-4146-8474-86056BA5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5B84-91F9-45FD-831C-E4C60A3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A0DFBD-CB59-41DD-9E0A-57FFB1F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09C726-E950-4803-999E-FC843CD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B06DE3-4854-4C6B-9D6B-AD081AF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B5885-3903-4C38-84B0-ABD567F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2FF977-9B5D-4C05-9402-9C17040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A911CA-C2F9-4C5D-AE24-AF1F93F1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BFA7D2-D3FF-4BBD-8BFA-8323FE7E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9166B9-5482-4C78-9D0E-FF2C122A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BA67BB-E9B8-43D0-B806-B62E68C8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B9221F-D118-40B1-B1A4-B0F6D93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3E69-D5F2-4F10-B3B7-E8D8B27D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0304D9-8835-4E86-88FC-579CCAA1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91209D-9622-4CFF-AF9F-8CF384C3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EC4C9C-9CED-4B14-BDDD-12CF28B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675CB9-29E2-4303-8422-19678B9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D7504B-2119-4F27-BD17-52EB478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69453B-5B40-4C9A-8EAE-3E6471B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716C05-F5BB-4FE1-9D65-A3DB718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A790A7-0DBE-4FFE-AA5F-2E12A764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D572BD-0279-4300-B622-92749CF9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F9A29F-EBDA-49A0-A761-971C7BDB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5271-8563-4A6C-B45A-E3DC7B7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AD0AE9-1B12-412F-B37B-0B4BED6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A2EC43-4807-4141-907C-1372D52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F5A669-408C-4CC4-8CF1-618F8585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E661B0-2F97-40BB-A869-AB4233E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7A8AAA-C233-4E16-A16E-2AB11E28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0AF564-8B4D-4A3C-895C-3DFAC1C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9E639C-E392-4844-BE11-3016F64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7739A0-9835-41A6-9ECC-1D08063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ABE799-8634-4D2A-B7BD-44CBD4FA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D99752-60DC-461B-A11F-54045D9C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A1FD-1F8F-4706-AB17-BE935EB9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E293B7-24A9-4DE6-A819-C63A1CC3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0712B7-D520-4A97-9142-5EF1F41A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67ECFF-AAB4-477D-B903-5F3FA451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1D5909-A4B9-4C04-8CC4-76BDD56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7D152B-B0E5-4315-9CF3-2B6C0C99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2FE000-E4CA-4E02-BFF3-4E5F6ECC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8F440F-0366-437D-9319-94905DE0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3B3290-55B8-4BB5-AEC3-E02196C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2FDFBF-7D02-45A0-A6A8-48DAF35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B19713-1BBC-4CF5-AB77-8AA80B5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6913-7829-4A61-A390-7357FB10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E4FFC4-D8EE-4A98-9504-7E2557F0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394A74-A3ED-4FDC-A4EF-BB0A0E8C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90F178-B4DB-4081-9D45-4E89D9CE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EA7852-4608-4C03-BECA-E39B5771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EFC03D-E91C-45BC-9ACB-D758742C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880B8F-65FB-4301-B506-865172A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566298-CBB3-40A4-BC0E-496BD0B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C67CCD-EFBF-4567-90E9-5C3C30A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D3D42B-BCC8-4477-985E-6B7CBAB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A08FB0-850D-4621-A01F-F84E779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445E-67B5-44E4-9556-C83D6773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5BDCFA-F306-45FC-8CDA-EF33D8C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501DC2-03ED-4896-9B44-66FCE4D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0B8DA8-E101-4E67-932B-3E3601F0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D87B4A-EE41-455B-B736-4076A926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7BEE52-688B-45DD-872B-CA86F4C3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2F5305-FA92-476A-83E2-3FACC113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C21E85-A67E-48FE-AFC0-117483EB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22F465-757F-412A-B96A-7B981672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75B591-4C4A-4A45-BC9A-C636F3E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D2ED4B-4FB4-4CCE-A91D-96633DF4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ACCC-08B7-449B-9012-74A7D7DD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E05CD9-D367-4E06-9AA6-D4D651C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18DD54-A64C-40D7-90E1-F865BB6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1FA60C-F650-4120-9870-65A6004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1970F5-DD2C-4CE0-A04B-9E3DA13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073673-DB74-4631-8D40-37C9D04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E7B7DF-3DA3-4CEC-859B-9C899B43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75B02C-4E54-40D5-BDB3-97047791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0FC0C3-0877-48D2-8DAC-ED89C4C7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D7404C-7559-4CCD-9E55-57D1B18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AF2C94-6D25-4F42-A629-957A6CFD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AFD-2DAF-430C-AED2-69CC0BEF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4086-8AF2-4295-BC8B-B0181575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63935A-3F5F-44B1-96CD-91C7ADA9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BC65AA-BBCD-4896-98EE-2E1781B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6126EB-7B7A-49B6-9AD9-9489EE19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F06833-A216-47BD-B882-FFF95089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4FF14A-E895-44B0-A63A-50AC6FF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3E6303-47BB-43CB-907A-6287EF1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DBB9A4-7EE6-4DF3-BC9C-B5D6C843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092BA5-F173-49BD-A055-532E3C3A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1064CA-765E-48DD-BF17-09C11453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6813DD-5441-41FB-95A1-0CED7908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0C8F-02E6-4D29-8126-6C9690F8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8174DC-5DED-40BC-BAC4-9CFA140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985B74-7093-4B24-8E68-DAD58B7B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780980-8C67-4F34-BE0E-59811F9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43E69F-1E42-47DB-879A-6C164076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2E7897-016B-4AAF-A30C-6B40EEDB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F79F85-3984-4FFE-8406-5CD990D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28DDFF-945B-4F04-8D90-CD73647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831A6E-4D75-4784-A861-02B4704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B2E47F-94F3-436B-8451-8ECB3E4F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45DEAF-095C-4877-B885-8848F07B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96EB-26DB-4B20-ABEC-BD4E1F8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5F3599-9FCA-4C86-925F-F3C9526C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2A42C5-2189-4A15-825F-FF1668F3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F5E7D0-7B15-4D81-89E9-BEC2236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8F2AEE-7DFC-4E7E-9AB0-7692D51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9E4D85-4013-44F7-B3DB-AB9A489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2E2FC8-80B1-413C-8FFC-A08B1763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CC24B3-4F1D-457F-B923-3C516B66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A818FA-07A7-4C1B-AD34-762F534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F4A7B7-0802-4B71-9346-2A09925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7087F1-BA75-41BE-AEA5-98E1ADE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5484-D428-4667-8E37-6AAAF55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373A4E-BDAA-448D-98A3-E6DC1CF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A7F343-C1E0-4063-A4BC-55F2BB90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77EBBB-5FA8-445B-BA68-852AD227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584425-6B4D-4017-9AEE-4A45B434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FD672F-AAC1-4D53-9AD7-751AD24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AA9AD2-58CD-46B3-95ED-CA73E64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C088CE-77F8-4BF3-A43D-B26E925D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77876F-7BA2-40D9-B338-7EEBDE8D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804212-C5DC-49E5-A32E-CA1C11A4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95BD39-CF58-46C7-857C-C422BFD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1DBE-1F1A-4A1B-AF7C-F9ED5AD0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F12264-082E-420A-9BC6-BD957B2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D4435E-78A1-4D96-AFE3-A77BD9D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03D14E-E3E3-4574-B720-BBF907C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A050DB-3F08-4B68-AB9A-91A969EF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72FBF4-4AB2-4746-B8B0-25726488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8AC0A6-9301-4B65-A02D-02C5FAD9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4040F7-EFE4-42A4-A621-0CCC21D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0528DC-50F7-4BEB-A217-0B0DC1C7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EDDFF2-F3AC-4BA0-89D7-4A661CF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4AB5F4-02EC-428C-A425-7E266D5A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1AE2-903E-46E2-8FF8-2CAFA86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9EEA13-675C-4246-A650-1A284FD5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E9D9B1-F928-4B0A-80A2-ECD73A7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BC5DA0-D5F0-4AE0-9013-447208D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289F4A-D791-4F72-A372-D0AB661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F9B201-DE2D-4C10-B37A-F544924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C43AD7-55FB-4604-B8D7-2E56CA32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2F3431-4947-4651-B100-DDAAB580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207CA4-4F2E-4133-BFBB-52812A93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F3D51D-7869-4074-A3EF-44BB40A6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90F8B9-5071-4501-97BC-7F351FE8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EB10-AD1A-413A-AC4B-EAF9FFB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D253E5-84C2-48CF-BD4A-565288F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005741-0CC6-4CD1-8F6E-C297D1B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FC6BDA-B28F-4310-915B-23F03491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AC81FE-5D96-4DCC-B74C-E6BCEDD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440079-DAD9-474A-BC06-A41AB3EA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11E834-46AF-46B4-8746-CEE5DAA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B983A0-5B7B-4AD7-80D6-EEACBC5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AB2728-847A-44D5-B107-65C01809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CB3F45-C175-4188-8454-87AD7CE7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67CB8A-C798-4D7D-A1D2-972FC52A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FF99-1178-46CA-98B7-628490CD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DB98D5-D69B-4133-BD2B-D45F548C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843FC1-093C-48F4-AA64-9DA3C8C9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F3B243-DB01-42BF-9F9B-8920774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4B5418-C2C3-42E5-AACB-8FF93B8A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13A1E5-BA2B-4FCA-AB5D-680D54D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6A5C6E-B789-4592-AF9D-03F8DEF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8E536F-3FD3-43DF-9C35-EA71EEB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BABC89-B3BD-4FB1-B58B-018087A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265948-3E02-4985-AD9C-70C8F4E8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227E0A-0D05-4A97-A93F-74FF93EF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61D5-E1F5-43B7-B1B7-FF0A27D6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7DD699-658F-4EF2-97F6-180706E0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B04878-63C6-43D1-947C-5B869CDB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9D0EF8-A53F-4130-BD21-5EE833EF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9F720D-FA81-46A9-B65A-CB59FB37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2E0557-8EEC-46FC-873F-62170BCD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E584CA-FF88-476B-AA94-F57335E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AB888E-69B1-45BB-996F-568BD871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4E135F-C03B-41E7-836C-8661AF5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4A9D23-BBCE-449C-A89D-791B40F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E1B724-871A-4265-B0D2-2D5EA0B6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C7319-5DB7-4AE4-9C39-A8BCA4C1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0CCBA7-FBDF-4B4B-86CC-0CADC789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5DEF33-9923-405F-BF4F-5EC11DAD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ED43A5-AAB5-4391-B363-581AA151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9E6031-3DFB-41B4-9F44-15B3DED9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F98063-C5A2-4589-96FD-EC120200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12EB70-4063-4212-8108-B0051FE1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98A11B-E82F-41AD-B0CE-E59D9D99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668731-5CCD-47EA-8FA6-C9ECEB77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3E7645-6DD0-4782-A421-595BC4D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6F4305-5223-4C48-90B6-0A1E994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47A-B707-420F-9B90-98F8798C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A401-A9BE-4666-B713-820875BD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DE8EC2-A1EC-4DE5-8D94-C5A75823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8CE4F0-908F-4ECB-989F-D055787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09B480-54AD-4E9D-A805-ABBE7E6D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5976F4-10E7-4B22-AB97-EF9514DB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84D09D-5397-415D-A4D6-8123C52B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9AD47F-6364-4F05-8D2A-2F0B0F09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8C900B-688A-4E9E-AB26-7BA49B5B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F54A16-8995-4A41-8644-F3BB0C7F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0E6A00-E067-442A-86BE-D8F39AE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526C78-3043-4AF1-B48D-E6CA2392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F76D-BB06-4FAF-B185-8B99E66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878085-0743-4117-ADC7-DF348E3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1234A0-25E6-4266-BD12-10B7104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23DE34-843F-4D49-912C-101800F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197CBE-1641-40EF-9E33-D761F6A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EB5369-C2B8-4B9B-9C23-25A65D14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DC7A04-8FBC-4BB1-990E-E67352D1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3C77B1-8545-4829-A00C-8E00E698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463097-CF77-47F8-85E8-68ED2D98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67C4A4-912D-4289-A6F4-7D1F7011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8BCC39-34C6-446E-B895-DE37D63D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A6D2-A21E-4412-AA07-6B0D03C6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FDA4FB-8B5C-4D8D-9A65-6B6052FA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28FD7C-66EF-45A9-B598-2AFD2B1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11A6E2-A59B-40ED-A825-71D5D52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6F18B5-F5F7-423B-8297-525719E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97DD3F-81C8-4AB8-8F35-FCAF03F9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00FBBB-24B3-4DDC-8963-2F2D860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B6D5F3-211A-4A07-984E-1966B344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8CD161-909A-4066-859A-0C1EC25C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470EFB-7515-4C44-B394-AA397EE6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7EF575-8A94-451F-8383-1517DE67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AD5B-C312-499F-8232-68315312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1B955D7-0483-4FBC-8851-93444879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D5FAC8-6421-4D1C-ADA0-70413DE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5DF5A4-70D2-4B76-AFE7-A92BAFB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274A86-7E0E-4C11-B66B-9AF3530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AAD513-9BEE-40DD-B5BE-3526C096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D84C9A-12BF-4CFB-AE6F-CD28913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42105C5-62E7-424A-9935-2C6B10A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EC90A1-D5B1-4030-A72A-BA9FF9D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30B93D-25DC-4333-8B24-FD7F93C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12EE10-7C4D-4138-B523-7A17FB22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57031-09C5-4E0A-8412-4BB3877A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7FD143-801D-4A80-B912-7C3DDC77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764667-D100-44D2-8371-9C919374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7CFF4D-1BF4-4345-9BBB-B8C2797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8728E0-DCCF-4E86-9DB2-82B1B2A6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4DF1AE-7DC6-4C2E-9C3E-C1CFD78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481D029-64D6-421C-A8FB-9F44950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A3CB49-1A5B-41CA-AC1B-166993C2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498F7FE-10AB-4052-AF34-E36283E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5EB75B-0EF0-464B-ADD9-4758104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B6B7BB-AF2F-4E95-ABDA-76BC646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B4E33-115F-4D15-BCB9-CE08B56B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0C4903-4A8B-4A8B-B524-7A6A15C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245561-89A4-470D-A1FF-8D68AD9F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03249D-27F2-44AA-814F-AFF8F34F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C04331-E570-4282-8CE8-99F41DC4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16547B0-99A1-45C6-99AE-62402355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37AA8B5-F945-4951-B86C-8BF08224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CCB56D-1776-4253-8E44-B72A020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902B5A-27F7-444F-B8BC-604853F5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8612D0-40D3-4424-AFBF-81BEB24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2C712C-7E30-429B-A1FC-80C3644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CFB4-2EC1-4866-BE79-2D45303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8F1999-29DD-4C27-9277-F393ED1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665AD1-E310-4D50-8E66-08D4B30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653EF06-D2FA-453C-B60A-45DE95B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377330D-7077-404C-99B3-8955BA61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5FFD85-98A1-4AA8-98F4-09F4AB59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53994E-FF61-45EA-AB51-C1F2BC53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66337B-E216-47EF-B389-FCC2BBF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7CDDC5-C3E6-4DA3-B629-812624D5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98C2F3-26DA-4EF5-8E2A-996E9A9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F1A13E-31CC-434A-82FE-3102CC7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9D12-2B32-47BC-B21E-9B8444B0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D0B964-78A2-4087-B0FA-1C9951E6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5155DB-33E4-40C4-B7ED-8B4E060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CA1BC1-B1BE-47D1-8A74-5F30857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E7271F-7D9E-4856-98F4-4F57D46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471753-54E2-4B29-B200-9F03757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894433-69E6-4922-A5FB-5F10EB2E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02CEAF-E8D5-4F7D-8BF4-60A64340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7072F-6765-4CAF-A1D2-63129EE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F4AF-F78A-4597-9BF1-0127901E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0A0-6C58-4865-AA06-BBCE6F9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3CC4-7F2A-433A-AA07-8B0EC0B4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1975-7222-45D0-B1B4-41EA8A64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44F6-EA65-4336-8F8D-EC3F20A0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780A-8A4B-41E3-8676-4295EC1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75419-1D65-41D4-AF31-C3EE2DEA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087A-4729-4CD1-A62C-741FF52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1CF1-7ECE-438F-9C08-9DBD555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2CA74-3586-4C0A-A0FB-F7117CE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686F-2AF4-4A9F-8691-DD0D105F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845C-AC0B-4C87-8DAA-EF47DC2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67D-CB03-4768-9A39-30C36A1D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2307-7A06-4F7A-937B-453DAAA8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D9E8-A860-4383-8C90-F2C8C8E7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4D3B-37F6-42B9-AE45-3B9802CC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223D5-195A-482A-86E4-09930F6A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59CED-9A22-4A29-AA0B-913C825E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0207-F8D1-4DE6-9960-415FE9A3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0E54-C281-4C8F-A18D-A92E9CFA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CF2B-4DA7-4BFD-9381-E2153160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1464-7492-4032-A8FF-54D6928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8A4C-48D6-4C8D-9C3C-390D7AC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772-587C-44B8-8A55-4D58160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7F4A4-58AE-4A0D-93A8-E2F0A5D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B701-B9CC-4E8F-87B9-83706022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9EB4-589E-46A2-ACB0-433B0BB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2012-9713-40B0-8F68-2632ADEA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48B6-67AC-4335-A6D3-548A7FD3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0C062-F9F6-41EC-BD98-E2E9027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ED8A4-DC47-401B-A073-FF37C80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B5F15-1EA4-410F-A2B6-7DB46060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74F3-CF80-478D-980C-1586A88E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C6EF1-1472-4EEE-9F2A-5082358B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CD9-1318-4019-AF0B-2C0DD2F3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EF7A3-4FF9-43D0-9A9F-578161B9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5C92C-747A-4351-A0DA-E1DB0A1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AC9B1-0368-4B43-B4D9-5E8DFA94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0BC86-9F2F-4C79-B22E-3993CAE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1809D-DBA2-44DE-BD79-862849F4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149C-C6EE-481C-9E34-0F4BABD8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AA484-2662-43C9-9389-341C7648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27883-5A05-4A41-A6D4-0176CCAF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B9E1C-9EB3-4AFE-AB65-BE6D47A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68F33-7D59-4A95-BF40-5A62F7E6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5A51DAD-4451-4C31-91BF-D5F69488795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169D52C-659C-4C2F-B434-B7551DBB116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4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eeee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TextBox 1"/>
          <p:cNvSpPr/>
          <p:nvPr/>
        </p:nvSpPr>
        <p:spPr>
          <a:xfrm>
            <a:off x="731880" y="777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19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一只窝囊的大老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50C16A4-0E99-4906-AFE3-A4BD44C5E02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4FF5C54-B87F-47C5-9E79-56528929FB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F606ED6-09F1-438B-95CA-D080A5ECE79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C91C494-590C-4A04-A8DD-AD83FB5E7E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637D9E4-1C1E-4D78-AB19-A940EF72B4E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DCA4A1D-36FE-4CAC-BF83-22C46EEB61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F4AEAC3-2634-4DF6-94F0-78FC6D9AB305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4055943-B218-4712-95F3-B46BD9BFB8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A75A57C-809B-4A89-86EF-F00E196AB60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7396D56-B3FF-467F-9710-1BBA6AA478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8AF4482-D4B8-40C7-B5FB-345BE6DFFAB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AF760BE-B1CA-4C1B-8691-AB8B5F1255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659" name="Oval 3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0" name="Oval 4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65" name="矩形 22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eeee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TextBox 1"/>
          <p:cNvSpPr/>
          <p:nvPr/>
        </p:nvSpPr>
        <p:spPr>
          <a:xfrm>
            <a:off x="731880" y="777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19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只窝囊的大老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595B782-05C0-44F7-A547-1B38E95034AD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9F9F967-E178-4006-B982-E1F88CC7F97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19BAD6A-2C00-4340-ADFB-5C987FA6F9B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42DFC58-A886-4370-A67D-80AFEA7CE5F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18CC1A5-5235-4EA7-9AA9-6BB8A28C273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01C0CAF-A4BE-4194-B314-14E1A0741EA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370A985-DC16-43BA-8C6F-ADBBBF64470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D68B361-F034-4F65-AF1E-3A947B7A1F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52" name="Oval 4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5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D12EB5E-6E99-4BDE-9CCA-C777BA827E5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95872C0-7926-4119-9C71-6CD13D49253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eeee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731880" y="777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19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只窝囊的大老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9DC0B8B-1D93-4E2F-9115-D8EA0936817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7F64EB6-FB23-418F-B7B7-EA8E800592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6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928E0DC-4C0E-48DF-9669-36344B34363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6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6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4E553A5-F086-4F4A-9AAF-31B62B73C1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5814A1B-2905-4C1F-8F58-5C6FABD8A56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EAB7777-8CE7-4B75-8AA8-A0B78859B62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6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F927C46-4B94-4C7D-8ABE-58B17496845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6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6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AD72261-131D-4D7B-A21D-19AF1478B53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6E68BFF-77DA-42CD-BFB2-40CE72ECF47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3C14DF5-2509-408A-BDB2-4E2CB0C48D4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7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3AC3692-D207-4701-8758-F1A740D2137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7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7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54B39DC-21D5-417C-BE14-4C776367430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56D2E4A-ED6B-4C06-A832-5BFC91649C70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281C919-1845-4F12-9004-769C770B489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2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119" name="Oval 3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0" name="Oval 4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1" name="Oval 5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2" name="Oval 6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3" name="Oval 7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4" name="Oval 8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25" name="矩形 22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eeee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6" name="TextBox 1"/>
          <p:cNvSpPr/>
          <p:nvPr/>
        </p:nvSpPr>
        <p:spPr>
          <a:xfrm>
            <a:off x="731880" y="777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19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只窝囊的大老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ACE012F-AD06-40FA-922F-1054850833B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7762BB8-C5E0-484B-9E60-A7DA9B5A11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DB314E8-3C87-4C46-8252-04A1E51F2CE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BB458A9-E9AF-45C7-83C8-BA1F23FE7BE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8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2AAE0D5-B201-47ED-B946-E834D64060B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8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4637190-8208-4C3D-99CF-217473D5DD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102" name="Oval 4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" name="Oval 5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" name="Oval 6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5" name="Oval 7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67CB3C1-5245-433E-A951-1FE25C86B62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F42A87C-3046-40B7-9338-23339213952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eeee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731880" y="777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19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只窝囊的大老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8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CD31EBE-876A-43F0-827F-4EC15758C93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8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9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3781CDA-9F8C-4E1C-A829-F91F5C095D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dt" idx="9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547A8AD-E390-4E5D-9FA2-EC57C847C59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ftr" idx="9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sldNum" idx="9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F4D0462-D9C4-4602-9941-8C3B4B657EF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9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7C2EFE8-3880-4DEB-9A81-D7FFF24309E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9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9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3CD433B-B68F-48C9-8104-8A789B80C8B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9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B67F28A-EF0B-4C63-B94A-D60849071EB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9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A74EE37-F347-4134-A08A-6CBBEA54B60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10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BA2529D-A5A0-47B1-A497-705C39AA453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10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10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1375232-E687-4F25-B538-1C93C0E4859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10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9F33BBD-7F6C-4E95-BB11-30FD9904A9A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10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10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A5D2C4B-54D3-4158-A492-946460DCA1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10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AB22ACA-E591-4573-89F9-3888A8D707F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10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10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D726679-60B8-4829-863F-4F84151804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10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775F98B-CB5C-43F0-A6F8-25067BA4E98D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11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11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A0960AF-8053-4EE8-A0D4-6E8AA5546D6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Group 2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579" name="Oval 3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0" name="Oval 4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1" name="Oval 5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2" name="Oval 6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3" name="Oval 7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4" name="Oval 8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1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92F20BA-9933-4612-A655-755D974B777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1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1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CB385A4-5084-439A-860F-03D648CE4F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11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3A00834-235E-475A-8BB7-09D716F548C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ftr" idx="11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 type="sldNum" idx="11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06BAC9F-B2CC-4271-93DB-BD7C345C3A1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152" name="Oval 4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4579142-B7AE-4C87-A771-FB3CC08AD54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4D3AFBE-6EC4-4726-A653-3D142AA2B76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 type="dt" idx="11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6160FD8-864D-4916-8E35-3438FB26CFF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 type="ftr" idx="11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 type="sldNum" idx="12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F1275FD-956C-490F-A527-0CF93914A5D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 type="dt" idx="12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C0EB4A5-0E9E-4F9A-BFDA-AB595103BB3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 type="ftr" idx="12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 type="sldNum" idx="12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C6B4059-FBFD-4A11-B12C-D73318ADF6D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dt" idx="12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B077C82-6919-40D3-BC36-773D240AD34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 type="ftr" idx="12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 type="sldNum" idx="12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2C3E98C-D995-4C3E-9D33-562BF4CD996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 type="dt" idx="12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CF1D901-5647-405C-891E-7E5FF582A09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 type="ftr" idx="12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 type="sldNum" idx="12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F93C33E-7CD1-4030-A258-721D2572BD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 type="dt" idx="13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7F7D22F-3A8F-4DBC-BD15-67C5E26E6AD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 type="ftr" idx="13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 type="sldNum" idx="13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49BE9E4-2A64-40D9-8BC0-FD10A8C66A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 type="dt" idx="13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78CC074-2B12-43AD-A54F-AEDD26C14E1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 type="ftr" idx="13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 type="sldNum" idx="13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6762318-BA57-4AEA-8097-D03F55B36F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 type="dt" idx="13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7337F5D-3182-48B1-BE02-947946A2A96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 type="ftr" idx="13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 type="sldNum" idx="13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8D68A47-EBCF-4F2E-BD20-3B41F3B7A91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 type="dt" idx="13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F580920-C5B1-424E-9E45-8678D0D544E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 type="ftr" idx="14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 type="sldNum" idx="14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19492E0-4138-4F60-84EF-EB5F068A9B4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4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C4B6308-21E0-4C83-B208-DA5A12ADB8C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4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 type="sldNum" idx="14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2BFBBB2-1E31-4E2D-94B8-BD2052C75DF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99" name="Oval 3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Oval 5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2" name="Oval 6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5" name="矩形 22"/>
          <p:cNvSpPr/>
          <p:nvPr/>
        </p:nvSpPr>
        <p:spPr>
          <a:xfrm flipH="1">
            <a:off x="-720" y="123840"/>
            <a:ext cx="2771640" cy="216000"/>
          </a:xfrm>
          <a:prstGeom prst="rect">
            <a:avLst/>
          </a:prstGeom>
          <a:gradFill rotWithShape="0">
            <a:gsLst>
              <a:gs pos="0">
                <a:srgbClr val="eeee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731880" y="777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黑体"/>
              </a:rPr>
              <a:t>19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黑体"/>
              </a:rPr>
              <a:t>一只窝囊的大老虎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7458AE2-B071-499B-BF3D-9DDEDC4E3BD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DA63EB3-B464-424A-9C89-28B0385E164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60B9612-8468-4830-AB39-E465ACB977A0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87969FD-9DB7-41B5-AD32-B3C7373B9F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D9E4463-7DB4-4122-ADD7-6007D6ACBB3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007130C-9F57-4786-A6E6-8C201D4AD7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9DF9714-F84B-473C-87A1-A7F1EAA64F9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6620EC0-FFC4-4ED9-898F-4EA5B16483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EC4CB9A-8146-40E2-A895-2F41BC831F2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5C0118D-D578-4C8F-A5C7-B676A13F04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TextBox 1"/>
          <p:cNvSpPr/>
          <p:nvPr/>
        </p:nvSpPr>
        <p:spPr>
          <a:xfrm>
            <a:off x="1476360" y="549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只窝囊的大老虎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7" name="直线连接符 21"/>
          <p:cNvSpPr/>
          <p:nvPr/>
        </p:nvSpPr>
        <p:spPr>
          <a:xfrm>
            <a:off x="2395440" y="1400040"/>
            <a:ext cx="417672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8" name="Picture 2" descr=""/>
          <p:cNvPicPr/>
          <p:nvPr/>
        </p:nvPicPr>
        <p:blipFill>
          <a:blip r:embed="rId1"/>
          <a:stretch/>
        </p:blipFill>
        <p:spPr>
          <a:xfrm>
            <a:off x="3276720" y="1851120"/>
            <a:ext cx="22320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TextBox 1"/>
          <p:cNvSpPr/>
          <p:nvPr/>
        </p:nvSpPr>
        <p:spPr>
          <a:xfrm>
            <a:off x="1476360" y="549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9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只窝囊的大老虎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9" name="直线连接符 21"/>
          <p:cNvSpPr/>
          <p:nvPr/>
        </p:nvSpPr>
        <p:spPr>
          <a:xfrm>
            <a:off x="2395440" y="1400040"/>
            <a:ext cx="417672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0" name="文本框 3"/>
          <p:cNvSpPr/>
          <p:nvPr/>
        </p:nvSpPr>
        <p:spPr>
          <a:xfrm>
            <a:off x="7744680" y="3805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第二课时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41" name="Picture 2" descr=""/>
          <p:cNvPicPr/>
          <p:nvPr/>
        </p:nvPicPr>
        <p:blipFill>
          <a:blip r:embed="rId1"/>
          <a:stretch/>
        </p:blipFill>
        <p:spPr>
          <a:xfrm>
            <a:off x="3241800" y="1832040"/>
            <a:ext cx="22320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文本框 1"/>
          <p:cNvSpPr/>
          <p:nvPr/>
        </p:nvSpPr>
        <p:spPr>
          <a:xfrm>
            <a:off x="833040" y="484200"/>
            <a:ext cx="1034280" cy="52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听写字词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3" name="文本框 2"/>
          <p:cNvSpPr/>
          <p:nvPr/>
        </p:nvSpPr>
        <p:spPr>
          <a:xfrm>
            <a:off x="138168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班级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4" name="文本框 3"/>
          <p:cNvSpPr/>
          <p:nvPr/>
        </p:nvSpPr>
        <p:spPr>
          <a:xfrm>
            <a:off x="3181680" y="1347840"/>
            <a:ext cx="8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段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5" name="文本框 4"/>
          <p:cNvSpPr/>
          <p:nvPr/>
        </p:nvSpPr>
        <p:spPr>
          <a:xfrm>
            <a:off x="1440360" y="2587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连衣裤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6" name="文本框 5"/>
          <p:cNvSpPr/>
          <p:nvPr/>
        </p:nvSpPr>
        <p:spPr>
          <a:xfrm>
            <a:off x="663300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排练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7" name="文本框 6"/>
          <p:cNvSpPr/>
          <p:nvPr/>
        </p:nvSpPr>
        <p:spPr>
          <a:xfrm>
            <a:off x="3366000" y="258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改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8" name="文本框 7"/>
          <p:cNvSpPr/>
          <p:nvPr/>
        </p:nvSpPr>
        <p:spPr>
          <a:xfrm>
            <a:off x="4926600" y="1379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兄妹俩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9" name="文本框 8"/>
          <p:cNvSpPr/>
          <p:nvPr/>
        </p:nvSpPr>
        <p:spPr>
          <a:xfrm>
            <a:off x="1569240" y="3579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哄堂大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0" name="文本框 9"/>
          <p:cNvSpPr/>
          <p:nvPr/>
        </p:nvSpPr>
        <p:spPr>
          <a:xfrm>
            <a:off x="4832640" y="3579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砸锅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1" name="文本框 10"/>
          <p:cNvSpPr/>
          <p:nvPr/>
        </p:nvSpPr>
        <p:spPr>
          <a:xfrm>
            <a:off x="6633000" y="258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挖了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2" name="文本框 11"/>
          <p:cNvSpPr/>
          <p:nvPr/>
        </p:nvSpPr>
        <p:spPr>
          <a:xfrm>
            <a:off x="4832640" y="258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亏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文本框 1"/>
          <p:cNvSpPr/>
          <p:nvPr/>
        </p:nvSpPr>
        <p:spPr>
          <a:xfrm>
            <a:off x="684360" y="5554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根据事情的发展，边读画出我心理活动的句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4" name="文本框 2"/>
          <p:cNvSpPr/>
          <p:nvPr/>
        </p:nvSpPr>
        <p:spPr>
          <a:xfrm>
            <a:off x="2116080" y="1838160"/>
            <a:ext cx="47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看着同班小朋友在台上又唱又跳，我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5" name="文本框 3"/>
          <p:cNvSpPr/>
          <p:nvPr/>
        </p:nvSpPr>
        <p:spPr>
          <a:xfrm>
            <a:off x="2032200" y="2712960"/>
            <a:ext cx="44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老师挑选演员分派角色的时候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6" name="文本框 4"/>
          <p:cNvSpPr/>
          <p:nvPr/>
        </p:nvSpPr>
        <p:spPr>
          <a:xfrm>
            <a:off x="684360" y="35863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演哥哥的小朋友笑话我不会豁虎跳演不好时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30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3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文本框 1"/>
          <p:cNvSpPr/>
          <p:nvPr/>
        </p:nvSpPr>
        <p:spPr>
          <a:xfrm>
            <a:off x="684360" y="5554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根据事情的发展，边读画出我心理活动的句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8" name="文本框 2"/>
          <p:cNvSpPr/>
          <p:nvPr/>
        </p:nvSpPr>
        <p:spPr>
          <a:xfrm>
            <a:off x="2198880" y="1838160"/>
            <a:ext cx="49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老师鼓励我说演老虎不用豁虎跳时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9" name="文本框 3"/>
          <p:cNvSpPr/>
          <p:nvPr/>
        </p:nvSpPr>
        <p:spPr>
          <a:xfrm>
            <a:off x="1949400" y="271296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在老师指导我怎样演老虎时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0" name="文本框 4"/>
          <p:cNvSpPr/>
          <p:nvPr/>
        </p:nvSpPr>
        <p:spPr>
          <a:xfrm>
            <a:off x="684360" y="35863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演哥哥的小朋友还是笑话我不会豁虎跳，演得窝囊时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3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3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3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文本框 1"/>
          <p:cNvSpPr/>
          <p:nvPr/>
        </p:nvSpPr>
        <p:spPr>
          <a:xfrm>
            <a:off x="684360" y="5554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根据事情的发展，边读画出我心理活动的句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2" name="文本框 2"/>
          <p:cNvSpPr/>
          <p:nvPr/>
        </p:nvSpPr>
        <p:spPr>
          <a:xfrm>
            <a:off x="2282400" y="170640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演出时，我听到台下一阵哄堂大笑时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3" name="文本框 3"/>
          <p:cNvSpPr/>
          <p:nvPr/>
        </p:nvSpPr>
        <p:spPr>
          <a:xfrm>
            <a:off x="1199520" y="2371680"/>
            <a:ext cx="20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演完时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4" name="文本框 4"/>
          <p:cNvSpPr/>
          <p:nvPr/>
        </p:nvSpPr>
        <p:spPr>
          <a:xfrm>
            <a:off x="663480" y="303696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演哥哥的小朋友又笑话我不会豁虎跳，我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5" name="文本框 5"/>
          <p:cNvSpPr/>
          <p:nvPr/>
        </p:nvSpPr>
        <p:spPr>
          <a:xfrm>
            <a:off x="684360" y="3695760"/>
            <a:ext cx="83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我至今还不明白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3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3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30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3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6" name=""/>
          <p:cNvGraphicFramePr/>
          <p:nvPr/>
        </p:nvGraphicFramePr>
        <p:xfrm>
          <a:off x="395280" y="771480"/>
          <a:ext cx="8066160" cy="3844800"/>
        </p:xfrm>
        <a:graphic>
          <a:graphicData uri="http://schemas.openxmlformats.org/drawingml/2006/table">
            <a:tbl>
              <a:tblPr/>
              <a:tblGrid>
                <a:gridCol w="2819520"/>
                <a:gridCol w="524664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我”的心情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原因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</a:tr>
              <a:tr h="1117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期待表演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想在台上露脸，获得大家的</a:t>
                      </a:r>
                      <a:endParaRPr b="0" i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掌声。</a:t>
                      </a:r>
                      <a:endParaRPr b="0" i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充满自信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 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</a:tr>
              <a:tr h="863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紧张、狼狈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 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宋体"/>
                        </a:rPr>
                        <a:t> 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 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文本框 1"/>
          <p:cNvSpPr/>
          <p:nvPr/>
        </p:nvSpPr>
        <p:spPr>
          <a:xfrm>
            <a:off x="539640" y="5554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心理活动是指我们的心情和心里的想法，故事中的小作者把自己演出前后的心理活动变化写得丰富而生动。喜怒哀乐都是我们心情，你能说出一些表示心情的词语吗？两字、三字、四字看谁说得多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8" name="文本框 2"/>
          <p:cNvSpPr/>
          <p:nvPr/>
        </p:nvSpPr>
        <p:spPr>
          <a:xfrm>
            <a:off x="755640" y="32925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难过 后悔 快乐 激动 兴奋 得意 美滋滋 垂头丧气 兴高采烈…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文本框 2"/>
          <p:cNvSpPr/>
          <p:nvPr/>
        </p:nvSpPr>
        <p:spPr>
          <a:xfrm>
            <a:off x="590400" y="323064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我慢吞吞地把试卷拿给妈妈，妈妈一看不禁皱起了眉头，我心想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可没想到妈妈看了我一眼，并没有批评我，而是安慰我说：“这次没考好不要紧，自己找找原因，争取下次进步！”听了妈妈的话，我心里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0" name="文本框 3"/>
          <p:cNvSpPr/>
          <p:nvPr/>
        </p:nvSpPr>
        <p:spPr>
          <a:xfrm>
            <a:off x="590400" y="981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试卷发下来了，我只考了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86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分，而且错得都是计算题，我……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1" name="文本框 4"/>
          <p:cNvSpPr/>
          <p:nvPr/>
        </p:nvSpPr>
        <p:spPr>
          <a:xfrm>
            <a:off x="592200" y="184644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放学路上，我…… 妈妈做了许多好吃的菜，可我…… 妈妈问：“期中试卷发下来了吗？考了多少分？” 我……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文本框 1"/>
          <p:cNvSpPr/>
          <p:nvPr/>
        </p:nvSpPr>
        <p:spPr>
          <a:xfrm>
            <a:off x="3151440" y="70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变换题目，开导作者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3" name="文本框 2"/>
          <p:cNvSpPr/>
          <p:nvPr/>
        </p:nvSpPr>
        <p:spPr>
          <a:xfrm>
            <a:off x="658800" y="1285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．作者一直觉得自己演砸了锅所以不开心，你觉得“我”真是一只窝囊的大老虎吗？谁能把题目改一改。你想怎么开导“我”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4" name="文本框 3"/>
          <p:cNvSpPr/>
          <p:nvPr/>
        </p:nvSpPr>
        <p:spPr>
          <a:xfrm>
            <a:off x="658800" y="28558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．生活中我们也会经历许许多多有趣的事情，不论是高兴的，还是难过的，不论是好事，还是傻事，无论是成功还是失败，都是我们最美好的回忆。平时同学们要多留心生活，把生活中发生的点点滴滴及时记下来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8" descr="c:\users\administrator\appdata\roaming\360se6\User Data\temp\330881-1409101K60740.jpg"/>
          <p:cNvPicPr/>
          <p:nvPr/>
        </p:nvPicPr>
        <p:blipFill>
          <a:blip r:embed="rId1"/>
          <a:stretch/>
        </p:blipFill>
        <p:spPr>
          <a:xfrm>
            <a:off x="2179800" y="1744560"/>
            <a:ext cx="4282920" cy="3213360"/>
          </a:xfrm>
          <a:prstGeom prst="rect">
            <a:avLst/>
          </a:prstGeom>
          <a:ln w="0">
            <a:noFill/>
          </a:ln>
        </p:spPr>
      </p:pic>
      <p:sp>
        <p:nvSpPr>
          <p:cNvPr id="2176" name="同侧圆角矩形 1"/>
          <p:cNvSpPr/>
          <p:nvPr/>
        </p:nvSpPr>
        <p:spPr>
          <a:xfrm>
            <a:off x="108000" y="484200"/>
            <a:ext cx="2000160" cy="515880"/>
          </a:xfrm>
          <a:prstGeom prst="pie">
            <a:avLst/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作业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7" name="直线连接符 21"/>
          <p:cNvSpPr/>
          <p:nvPr/>
        </p:nvSpPr>
        <p:spPr>
          <a:xfrm flipV="1">
            <a:off x="108000" y="105876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8" name="文本框 3"/>
          <p:cNvSpPr/>
          <p:nvPr/>
        </p:nvSpPr>
        <p:spPr>
          <a:xfrm>
            <a:off x="971640" y="14922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写读后感或者写自己亲身经历的这样的事情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9" name="图片 1" descr=""/>
          <p:cNvPicPr/>
          <p:nvPr/>
        </p:nvPicPr>
        <p:blipFill>
          <a:blip r:embed="rId1"/>
          <a:stretch/>
        </p:blipFill>
        <p:spPr>
          <a:xfrm>
            <a:off x="826920" y="484200"/>
            <a:ext cx="7212240" cy="4506840"/>
          </a:xfrm>
          <a:prstGeom prst="rect">
            <a:avLst/>
          </a:prstGeom>
          <a:ln w="0">
            <a:noFill/>
          </a:ln>
        </p:spPr>
      </p:pic>
      <p:pic>
        <p:nvPicPr>
          <p:cNvPr id="2040" name="图片 2" descr=""/>
          <p:cNvPicPr/>
          <p:nvPr/>
        </p:nvPicPr>
        <p:blipFill>
          <a:blip r:embed="rId2"/>
          <a:stretch/>
        </p:blipFill>
        <p:spPr>
          <a:xfrm>
            <a:off x="826920" y="411120"/>
            <a:ext cx="7212240" cy="465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文本框 1"/>
          <p:cNvSpPr/>
          <p:nvPr/>
        </p:nvSpPr>
        <p:spPr>
          <a:xfrm>
            <a:off x="826920" y="7714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刚才读了课文，课文主要写了什么内容？谁来告诉大家呢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2" name="文本框 2"/>
          <p:cNvSpPr/>
          <p:nvPr/>
        </p:nvSpPr>
        <p:spPr>
          <a:xfrm>
            <a:off x="826920" y="22114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谁）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        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干什么） 结果演砸锅了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3" name="文本框 3"/>
          <p:cNvSpPr/>
          <p:nvPr/>
        </p:nvSpPr>
        <p:spPr>
          <a:xfrm>
            <a:off x="1270440" y="2201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我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4" name="文本框 4"/>
          <p:cNvSpPr/>
          <p:nvPr/>
        </p:nvSpPr>
        <p:spPr>
          <a:xfrm>
            <a:off x="3921120" y="2198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扮演一只大老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45" name="图片 5" descr=""/>
          <p:cNvPicPr/>
          <p:nvPr/>
        </p:nvPicPr>
        <p:blipFill>
          <a:blip r:embed="rId1"/>
          <a:stretch/>
        </p:blipFill>
        <p:spPr>
          <a:xfrm>
            <a:off x="4500720" y="2932200"/>
            <a:ext cx="327960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文本框 1"/>
          <p:cNvSpPr/>
          <p:nvPr/>
        </p:nvSpPr>
        <p:spPr>
          <a:xfrm>
            <a:off x="826920" y="1563840"/>
            <a:ext cx="814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演技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撤    换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砸   锅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笨     拙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逗  乐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殷  切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半      晌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豁    虎  跳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撇  嘴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头     罩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羡    慕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7" name="文本框 4"/>
          <p:cNvSpPr/>
          <p:nvPr/>
        </p:nvSpPr>
        <p:spPr>
          <a:xfrm>
            <a:off x="826920" y="455760"/>
            <a:ext cx="14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易读错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8" name="文本框 5"/>
          <p:cNvSpPr/>
          <p:nvPr/>
        </p:nvSpPr>
        <p:spPr>
          <a:xfrm>
            <a:off x="849600" y="10890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yǎn j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9" name="文本框 6"/>
          <p:cNvSpPr/>
          <p:nvPr/>
        </p:nvSpPr>
        <p:spPr>
          <a:xfrm>
            <a:off x="1919160" y="10890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chè huàn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0" name="文本框 7"/>
          <p:cNvSpPr/>
          <p:nvPr/>
        </p:nvSpPr>
        <p:spPr>
          <a:xfrm>
            <a:off x="3583800" y="108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zá guō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1" name="文本框 8"/>
          <p:cNvSpPr/>
          <p:nvPr/>
        </p:nvSpPr>
        <p:spPr>
          <a:xfrm>
            <a:off x="4943160" y="10890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bèn zhuō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2" name="文本框 9"/>
          <p:cNvSpPr/>
          <p:nvPr/>
        </p:nvSpPr>
        <p:spPr>
          <a:xfrm>
            <a:off x="6437160" y="10954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dòu l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3" name="文本框 10"/>
          <p:cNvSpPr/>
          <p:nvPr/>
        </p:nvSpPr>
        <p:spPr>
          <a:xfrm>
            <a:off x="7535880" y="109548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yīn qi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4" name="文本框 11"/>
          <p:cNvSpPr/>
          <p:nvPr/>
        </p:nvSpPr>
        <p:spPr>
          <a:xfrm>
            <a:off x="718200" y="24652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bàn shǎng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5" name="文本框 12"/>
          <p:cNvSpPr/>
          <p:nvPr/>
        </p:nvSpPr>
        <p:spPr>
          <a:xfrm>
            <a:off x="2296440" y="2467080"/>
            <a:ext cx="18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huō hǔ tiào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6" name="文本框 13"/>
          <p:cNvSpPr/>
          <p:nvPr/>
        </p:nvSpPr>
        <p:spPr>
          <a:xfrm>
            <a:off x="4314240" y="24591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piě zuǐ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7" name="文本框 14"/>
          <p:cNvSpPr/>
          <p:nvPr/>
        </p:nvSpPr>
        <p:spPr>
          <a:xfrm>
            <a:off x="5438880" y="2467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tóu zhào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8" name="文本框 15"/>
          <p:cNvSpPr/>
          <p:nvPr/>
        </p:nvSpPr>
        <p:spPr>
          <a:xfrm>
            <a:off x="6761160" y="24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xiàn mù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文本框 1"/>
          <p:cNvSpPr/>
          <p:nvPr/>
        </p:nvSpPr>
        <p:spPr>
          <a:xfrm>
            <a:off x="1042920" y="170820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角色    四脚着地    直冲脑门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露脸    哄堂大笑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0" name="文本框 2"/>
          <p:cNvSpPr/>
          <p:nvPr/>
        </p:nvSpPr>
        <p:spPr>
          <a:xfrm>
            <a:off x="929880" y="555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细黑"/>
                <a:ea typeface="华文细黑"/>
              </a:rPr>
              <a:t>多音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1" name="文本框 3"/>
          <p:cNvSpPr/>
          <p:nvPr/>
        </p:nvSpPr>
        <p:spPr>
          <a:xfrm>
            <a:off x="1105920" y="12762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jué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2" name="文本框 4"/>
          <p:cNvSpPr/>
          <p:nvPr/>
        </p:nvSpPr>
        <p:spPr>
          <a:xfrm>
            <a:off x="3399120" y="12333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zhuó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3" name="文本框 5"/>
          <p:cNvSpPr/>
          <p:nvPr/>
        </p:nvSpPr>
        <p:spPr>
          <a:xfrm>
            <a:off x="1056600" y="273384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lòu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4" name="文本框 6"/>
          <p:cNvSpPr/>
          <p:nvPr/>
        </p:nvSpPr>
        <p:spPr>
          <a:xfrm>
            <a:off x="5374080" y="125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chōng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5" name="文本框 7"/>
          <p:cNvSpPr/>
          <p:nvPr/>
        </p:nvSpPr>
        <p:spPr>
          <a:xfrm>
            <a:off x="2603160" y="2733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hōng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文本框 1"/>
          <p:cNvSpPr/>
          <p:nvPr/>
        </p:nvSpPr>
        <p:spPr>
          <a:xfrm>
            <a:off x="2635920" y="1419120"/>
            <a:ext cx="358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窝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囊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糨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糊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亏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得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窟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比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划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将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就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打瞌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7" name="文本框 2"/>
          <p:cNvSpPr/>
          <p:nvPr/>
        </p:nvSpPr>
        <p:spPr>
          <a:xfrm>
            <a:off x="929880" y="484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轻声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文本框 1"/>
          <p:cNvSpPr/>
          <p:nvPr/>
        </p:nvSpPr>
        <p:spPr>
          <a:xfrm>
            <a:off x="1725480" y="112536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接连不断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9" name="文本框 2"/>
          <p:cNvSpPr/>
          <p:nvPr/>
        </p:nvSpPr>
        <p:spPr>
          <a:xfrm>
            <a:off x="991080" y="4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成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0" name="文本框 3"/>
          <p:cNvSpPr/>
          <p:nvPr/>
        </p:nvSpPr>
        <p:spPr>
          <a:xfrm>
            <a:off x="5011560" y="112536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唉声叹气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1" name="文本框 4"/>
          <p:cNvSpPr/>
          <p:nvPr/>
        </p:nvSpPr>
        <p:spPr>
          <a:xfrm>
            <a:off x="1692360" y="2455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垂头丧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2" name="文本框 5"/>
          <p:cNvSpPr/>
          <p:nvPr/>
        </p:nvSpPr>
        <p:spPr>
          <a:xfrm>
            <a:off x="1725480" y="3852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通情达理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3" name="文本框 6"/>
          <p:cNvSpPr/>
          <p:nvPr/>
        </p:nvSpPr>
        <p:spPr>
          <a:xfrm>
            <a:off x="5011560" y="24559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踱来踱去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直线连接符 21"/>
          <p:cNvSpPr/>
          <p:nvPr/>
        </p:nvSpPr>
        <p:spPr>
          <a:xfrm flipV="1">
            <a:off x="66600" y="1047600"/>
            <a:ext cx="225576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5" name="同侧圆角矩形 2"/>
          <p:cNvSpPr/>
          <p:nvPr/>
        </p:nvSpPr>
        <p:spPr>
          <a:xfrm>
            <a:off x="250920" y="484200"/>
            <a:ext cx="2000160" cy="515880"/>
          </a:xfrm>
          <a:prstGeom prst="pie">
            <a:avLst/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学习字词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6" name="TextBox 23"/>
          <p:cNvSpPr/>
          <p:nvPr/>
        </p:nvSpPr>
        <p:spPr>
          <a:xfrm>
            <a:off x="615960" y="17334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囊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7" name="TextBox 24"/>
          <p:cNvSpPr/>
          <p:nvPr/>
        </p:nvSpPr>
        <p:spPr>
          <a:xfrm>
            <a:off x="420840" y="122868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nā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8" name="TextBox 23"/>
          <p:cNvSpPr/>
          <p:nvPr/>
        </p:nvSpPr>
        <p:spPr>
          <a:xfrm>
            <a:off x="1793880" y="17334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级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9" name="TextBox 24"/>
          <p:cNvSpPr/>
          <p:nvPr/>
        </p:nvSpPr>
        <p:spPr>
          <a:xfrm>
            <a:off x="2019240" y="1251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j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0" name="TextBox 23"/>
          <p:cNvSpPr/>
          <p:nvPr/>
        </p:nvSpPr>
        <p:spPr>
          <a:xfrm>
            <a:off x="2994120" y="173340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露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1" name="TextBox 24"/>
          <p:cNvSpPr/>
          <p:nvPr/>
        </p:nvSpPr>
        <p:spPr>
          <a:xfrm>
            <a:off x="3017880" y="12286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lòu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2" name="TextBox 23"/>
          <p:cNvSpPr/>
          <p:nvPr/>
        </p:nvSpPr>
        <p:spPr>
          <a:xfrm>
            <a:off x="4130640" y="17334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角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3" name="TextBox 24"/>
          <p:cNvSpPr/>
          <p:nvPr/>
        </p:nvSpPr>
        <p:spPr>
          <a:xfrm>
            <a:off x="4165560" y="12286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ju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4" name="TextBox 23"/>
          <p:cNvSpPr/>
          <p:nvPr/>
        </p:nvSpPr>
        <p:spPr>
          <a:xfrm>
            <a:off x="5262480" y="17334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羡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5" name="TextBox 24"/>
          <p:cNvSpPr/>
          <p:nvPr/>
        </p:nvSpPr>
        <p:spPr>
          <a:xfrm>
            <a:off x="5202360" y="122868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xià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6" name="TextBox 23"/>
          <p:cNvSpPr/>
          <p:nvPr/>
        </p:nvSpPr>
        <p:spPr>
          <a:xfrm>
            <a:off x="6483240" y="17334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殷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7" name="TextBox 24"/>
          <p:cNvSpPr/>
          <p:nvPr/>
        </p:nvSpPr>
        <p:spPr>
          <a:xfrm>
            <a:off x="6462720" y="12286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yī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8" name="TextBox 23"/>
          <p:cNvSpPr/>
          <p:nvPr/>
        </p:nvSpPr>
        <p:spPr>
          <a:xfrm>
            <a:off x="7553160" y="17478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豁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9" name="TextBox 24"/>
          <p:cNvSpPr/>
          <p:nvPr/>
        </p:nvSpPr>
        <p:spPr>
          <a:xfrm>
            <a:off x="7469280" y="1251000"/>
            <a:ext cx="11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hu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0" name="TextBox 23"/>
          <p:cNvSpPr/>
          <p:nvPr/>
        </p:nvSpPr>
        <p:spPr>
          <a:xfrm>
            <a:off x="577800" y="31622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撇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1" name="TextBox 24"/>
          <p:cNvSpPr/>
          <p:nvPr/>
        </p:nvSpPr>
        <p:spPr>
          <a:xfrm>
            <a:off x="615960" y="2658960"/>
            <a:ext cx="8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pi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2" name="TextBox 23"/>
          <p:cNvSpPr/>
          <p:nvPr/>
        </p:nvSpPr>
        <p:spPr>
          <a:xfrm>
            <a:off x="1755720" y="31622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霉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3" name="TextBox 24"/>
          <p:cNvSpPr/>
          <p:nvPr/>
        </p:nvSpPr>
        <p:spPr>
          <a:xfrm>
            <a:off x="1782720" y="2658960"/>
            <a:ext cx="8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méi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4" name="TextBox 23"/>
          <p:cNvSpPr/>
          <p:nvPr/>
        </p:nvSpPr>
        <p:spPr>
          <a:xfrm>
            <a:off x="2955960" y="31622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亏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5" name="TextBox 24"/>
          <p:cNvSpPr/>
          <p:nvPr/>
        </p:nvSpPr>
        <p:spPr>
          <a:xfrm>
            <a:off x="2952720" y="2658960"/>
            <a:ext cx="9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ku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6" name="TextBox 23"/>
          <p:cNvSpPr/>
          <p:nvPr/>
        </p:nvSpPr>
        <p:spPr>
          <a:xfrm>
            <a:off x="4091040" y="31622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哄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7" name="TextBox 24"/>
          <p:cNvSpPr/>
          <p:nvPr/>
        </p:nvSpPr>
        <p:spPr>
          <a:xfrm>
            <a:off x="3948120" y="2658960"/>
            <a:ext cx="110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8" name="TextBox 23"/>
          <p:cNvSpPr/>
          <p:nvPr/>
        </p:nvSpPr>
        <p:spPr>
          <a:xfrm>
            <a:off x="5292720" y="31622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拙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9" name="TextBox 24"/>
          <p:cNvSpPr/>
          <p:nvPr/>
        </p:nvSpPr>
        <p:spPr>
          <a:xfrm>
            <a:off x="5149800" y="265896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zhu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0" name="TextBox 23"/>
          <p:cNvSpPr/>
          <p:nvPr/>
        </p:nvSpPr>
        <p:spPr>
          <a:xfrm>
            <a:off x="6491160" y="31622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砸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1" name="TextBox 24"/>
          <p:cNvSpPr/>
          <p:nvPr/>
        </p:nvSpPr>
        <p:spPr>
          <a:xfrm>
            <a:off x="6616800" y="26589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汉语拼音"/>
                <a:ea typeface="微软雅黑"/>
              </a:rPr>
              <a:t>z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2" name="文本框 4"/>
          <p:cNvSpPr/>
          <p:nvPr/>
        </p:nvSpPr>
        <p:spPr>
          <a:xfrm>
            <a:off x="635040" y="3994200"/>
            <a:ext cx="7466040" cy="9471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囊读一声，“角”是多音字，在“角色”中读“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u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é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“豁”应读一声，不要读成四声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文本框 9"/>
          <p:cNvSpPr/>
          <p:nvPr/>
        </p:nvSpPr>
        <p:spPr>
          <a:xfrm>
            <a:off x="2243160" y="3888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4000" spc="-1" strike="noStrike" u="sng">
                <a:solidFill>
                  <a:srgbClr val="ff6600"/>
                </a:solidFill>
                <a:uFillTx/>
                <a:latin typeface="方正姚体"/>
                <a:ea typeface="方正姚体"/>
              </a:rPr>
              <a:t>我会写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04" name=""/>
          <p:cNvGraphicFramePr/>
          <p:nvPr/>
        </p:nvGraphicFramePr>
        <p:xfrm>
          <a:off x="254160" y="1347840"/>
          <a:ext cx="1077840" cy="109224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728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5" name="TextBox 23"/>
          <p:cNvSpPr/>
          <p:nvPr/>
        </p:nvSpPr>
        <p:spPr>
          <a:xfrm>
            <a:off x="334800" y="1347840"/>
            <a:ext cx="9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念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6" name="直线连接符 21"/>
          <p:cNvSpPr/>
          <p:nvPr/>
        </p:nvSpPr>
        <p:spPr>
          <a:xfrm flipV="1">
            <a:off x="66600" y="1047600"/>
            <a:ext cx="225576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7" name="同侧圆角矩形 95"/>
          <p:cNvSpPr/>
          <p:nvPr/>
        </p:nvSpPr>
        <p:spPr>
          <a:xfrm>
            <a:off x="250920" y="484200"/>
            <a:ext cx="2000160" cy="515880"/>
          </a:xfrm>
          <a:prstGeom prst="pie">
            <a:avLst/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学习字词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08" name=""/>
          <p:cNvGraphicFramePr/>
          <p:nvPr/>
        </p:nvGraphicFramePr>
        <p:xfrm>
          <a:off x="1444680" y="134604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09" name="TextBox 23"/>
          <p:cNvSpPr/>
          <p:nvPr/>
        </p:nvSpPr>
        <p:spPr>
          <a:xfrm>
            <a:off x="1525680" y="134604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级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10" name=""/>
          <p:cNvGraphicFramePr/>
          <p:nvPr/>
        </p:nvGraphicFramePr>
        <p:xfrm>
          <a:off x="2610000" y="1346040"/>
          <a:ext cx="1076040" cy="1093680"/>
        </p:xfrm>
        <a:graphic>
          <a:graphicData uri="http://schemas.openxmlformats.org/drawingml/2006/table">
            <a:tbl>
              <a:tblPr/>
              <a:tblGrid>
                <a:gridCol w="537840"/>
                <a:gridCol w="53820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1" name="TextBox 23"/>
          <p:cNvSpPr/>
          <p:nvPr/>
        </p:nvSpPr>
        <p:spPr>
          <a:xfrm>
            <a:off x="2690640" y="1346040"/>
            <a:ext cx="9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段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12" name=""/>
          <p:cNvGraphicFramePr/>
          <p:nvPr/>
        </p:nvGraphicFramePr>
        <p:xfrm>
          <a:off x="3814920" y="134604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3" name="TextBox 23"/>
          <p:cNvSpPr/>
          <p:nvPr/>
        </p:nvSpPr>
        <p:spPr>
          <a:xfrm>
            <a:off x="3895560" y="1346040"/>
            <a:ext cx="9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俩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14" name=""/>
          <p:cNvGraphicFramePr/>
          <p:nvPr/>
        </p:nvGraphicFramePr>
        <p:xfrm>
          <a:off x="5035680" y="134604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5" name="TextBox 23"/>
          <p:cNvSpPr/>
          <p:nvPr/>
        </p:nvSpPr>
        <p:spPr>
          <a:xfrm>
            <a:off x="5118120" y="134604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练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6219720" y="1346040"/>
          <a:ext cx="107640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7" name="TextBox 23"/>
          <p:cNvSpPr/>
          <p:nvPr/>
        </p:nvSpPr>
        <p:spPr>
          <a:xfrm>
            <a:off x="6300720" y="134604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裤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18" name=""/>
          <p:cNvGraphicFramePr/>
          <p:nvPr/>
        </p:nvGraphicFramePr>
        <p:xfrm>
          <a:off x="7380360" y="134604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9" name="TextBox 23"/>
          <p:cNvSpPr/>
          <p:nvPr/>
        </p:nvSpPr>
        <p:spPr>
          <a:xfrm>
            <a:off x="7461360" y="134604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改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20" name=""/>
          <p:cNvGraphicFramePr/>
          <p:nvPr/>
        </p:nvGraphicFramePr>
        <p:xfrm>
          <a:off x="247680" y="3436920"/>
          <a:ext cx="1077840" cy="109224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728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1" name="TextBox 23"/>
          <p:cNvSpPr/>
          <p:nvPr/>
        </p:nvSpPr>
        <p:spPr>
          <a:xfrm>
            <a:off x="328680" y="343692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逃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22" name=""/>
          <p:cNvGraphicFramePr/>
          <p:nvPr/>
        </p:nvGraphicFramePr>
        <p:xfrm>
          <a:off x="1436760" y="343548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3" name="TextBox 23"/>
          <p:cNvSpPr/>
          <p:nvPr/>
        </p:nvSpPr>
        <p:spPr>
          <a:xfrm>
            <a:off x="1519200" y="343548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亏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24" name=""/>
          <p:cNvGraphicFramePr/>
          <p:nvPr/>
        </p:nvGraphicFramePr>
        <p:xfrm>
          <a:off x="2602080" y="343548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5" name="TextBox 23"/>
          <p:cNvSpPr/>
          <p:nvPr/>
        </p:nvSpPr>
        <p:spPr>
          <a:xfrm>
            <a:off x="2684520" y="343548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挖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3808440" y="343548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7" name="TextBox 23"/>
          <p:cNvSpPr/>
          <p:nvPr/>
        </p:nvSpPr>
        <p:spPr>
          <a:xfrm>
            <a:off x="3889440" y="343548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28" name=""/>
          <p:cNvGraphicFramePr/>
          <p:nvPr/>
        </p:nvGraphicFramePr>
        <p:xfrm>
          <a:off x="5029200" y="343548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9" name="TextBox 23"/>
          <p:cNvSpPr/>
          <p:nvPr/>
        </p:nvSpPr>
        <p:spPr>
          <a:xfrm>
            <a:off x="5110200" y="343548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砸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30" name=""/>
          <p:cNvGraphicFramePr/>
          <p:nvPr/>
        </p:nvGraphicFramePr>
        <p:xfrm>
          <a:off x="6211800" y="3435480"/>
          <a:ext cx="1077840" cy="10936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</a:tblGrid>
              <a:tr h="55872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7400" rIns="77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77400" marR="77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1" name="TextBox 23"/>
          <p:cNvSpPr/>
          <p:nvPr/>
        </p:nvSpPr>
        <p:spPr>
          <a:xfrm>
            <a:off x="6292800" y="343548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锅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2" name="文本框 2"/>
          <p:cNvSpPr/>
          <p:nvPr/>
        </p:nvSpPr>
        <p:spPr>
          <a:xfrm>
            <a:off x="358920" y="2643120"/>
            <a:ext cx="4782960" cy="337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“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念、堂”都是上下结构的字，书写时要中间宽一些“皇”是上下结构的字，上面的“白”要扁一些。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3" name="文本框 61"/>
          <p:cNvSpPr/>
          <p:nvPr/>
        </p:nvSpPr>
        <p:spPr>
          <a:xfrm>
            <a:off x="5364000" y="2768760"/>
            <a:ext cx="3300480" cy="337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“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段”的第一笔是撇，不要写成横。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4" name="直接连接符 11"/>
          <p:cNvSpPr/>
          <p:nvPr/>
        </p:nvSpPr>
        <p:spPr>
          <a:xfrm flipH="1" flipV="1">
            <a:off x="775800" y="2427120"/>
            <a:ext cx="474840" cy="2160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5" name="文本框 5"/>
          <p:cNvSpPr/>
          <p:nvPr/>
        </p:nvSpPr>
        <p:spPr>
          <a:xfrm>
            <a:off x="4032360" y="509760"/>
            <a:ext cx="3676680" cy="825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级、段、俩、练、裤、改、挖、砸、锅”都是左右结构的字，书写时都是左窄右宽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6" name="直接连接符 60"/>
          <p:cNvSpPr/>
          <p:nvPr/>
        </p:nvSpPr>
        <p:spPr>
          <a:xfrm flipH="1" flipV="1">
            <a:off x="3652920" y="2426760"/>
            <a:ext cx="2790720" cy="3272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7" name="直接连接符 70"/>
          <p:cNvSpPr/>
          <p:nvPr/>
        </p:nvSpPr>
        <p:spPr>
          <a:xfrm flipH="1" flipV="1">
            <a:off x="3895560" y="3222360"/>
            <a:ext cx="244800" cy="2077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3:37:16Z</dcterms:modified>
  <cp:revision>1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